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ct" ContentType="image/x-pict"/>
  <Override PartName="/ppt/media/image9.pct" ContentType="image/x-pict"/>
  <Override PartName="/ppt/media/image13.pct" ContentType="image/x-pict"/>
  <Override PartName="/ppt/media/image4.jpeg" ContentType="image/jpeg"/>
  <Override PartName="/ppt/media/image1.jpeg" ContentType="image/jpeg"/>
  <Override PartName="/ppt/media/image3.jpeg" ContentType="image/jpeg"/>
  <Override PartName="/ppt/media/image2.jpeg" ContentType="image/jpeg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4A2E-E348-4C91-87FA-FD3264CB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00BF-D277-44A4-88C7-CB6CEA9F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3F6E-6737-4552-8EEC-47D552CC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4BC0-F52C-4A67-8DEF-269086EF1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E1F0-3832-4BCE-B0CB-DF950918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3248-BCDA-4014-927A-12D4ED01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CA90-6338-4452-A766-3AC926E1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4CA4-61F2-4999-BD75-7F8B839C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CB40-1502-42A2-BAAA-1154060B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A73C-1CC3-404A-9DA7-89B4FC49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F5FF-0F8D-4E0F-A0C3-21B14A50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1133-127D-447D-9118-B6B02438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891C-18CA-4F7C-A784-099D77BC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959B-826C-40EB-A22E-090EC7D4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A1DF-4348-4BD3-9B34-FA103996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3B06-A91A-40F1-AB3E-11232D1D1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86FA-A2D5-4A8B-9AED-076C3C33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35A5-02F9-41D1-8602-8C117FB5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62D3-A4D3-4150-8FDF-D6D27048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E494-B860-42CA-BE1C-1DF9F3A6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B989-4A33-4978-A3AC-DD6A3767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0CCA-3C92-4A3E-A951-4D16F5C7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D1E3-2D1E-458A-B807-30507768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7D3E-01A4-42E8-9E2D-82F70E94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3C0F-5C08-4497-9CF2-F93091C28E5A}" type="slidenum"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EB37-9F94-4E4A-86E6-84E7557F396F}" type="slidenum"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Quiz on Inequalities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23520" y="335232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Quiz #2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Please number your paper from 1-10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Skip spaces as you go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olve and graph the following in equality.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9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307656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olve and graph the following inequality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10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05120" y="2743200"/>
            <a:ext cx="502920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Yes or No: Will the symbol change in this problem?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448632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Yes or No: Will the symbol change in this problem?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2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276720" y="2514600"/>
            <a:ext cx="247968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ill the following problem be shaded left or right?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3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352680" y="2514600"/>
            <a:ext cx="206532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ill the following problem be shaded left or right?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4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14600" y="2895480"/>
            <a:ext cx="404172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olve the following inequality.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5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62320" y="3200400"/>
            <a:ext cx="494352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olve the following inequality.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6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971800" y="2438280"/>
            <a:ext cx="30481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olve and graph the following inequality.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7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37242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olve and graph the following inequality.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8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33720" y="2971800"/>
            <a:ext cx="490536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2:47:27Z</dcterms:created>
  <dc:creator>Christy Williams</dc:creator>
  <dc:description/>
  <dc:language>en-US</dc:language>
  <cp:lastModifiedBy>Parkland High School</cp:lastModifiedBy>
  <cp:lastPrinted>2010-10-27T13:47:18Z</cp:lastPrinted>
  <dcterms:modified xsi:type="dcterms:W3CDTF">2010-10-27T14:30:33Z</dcterms:modified>
  <cp:revision>3</cp:revision>
  <dc:subject/>
  <dc:title>Quiz on Inequalities</dc:title>
</cp:coreProperties>
</file>